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28520"/>
        <c:axId val="11748664"/>
      </c:barChart>
      <c:catAx>
        <c:axId val="729285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48664"/>
        <c:crosses val="autoZero"/>
        <c:auto val="1"/>
        <c:lblAlgn val="ctr"/>
        <c:lblOffset val="100"/>
        <c:noMultiLvlLbl val="0"/>
      </c:catAx>
      <c:valAx>
        <c:axId val="117486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285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A277-D3B7-4E4E-A783-7FE5FC8A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65AC-D702-43EB-BE12-3BB199AE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0984-C2C2-4CA2-9340-61B2EE99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5332-38D4-4BA9-AC22-DCFE0B4C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FC2F-2983-4527-96C7-96EF36F3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4C0B-B79C-4AE3-9384-E0CCC8E7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A8DC-89D3-4325-AE78-5298D9CE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D256-55B8-433E-A15A-363C0D60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BCAB-8670-40F6-AAD1-BAB8DD92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DA50-6F7E-46D1-90E2-F90919ED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2742-07F1-48BE-B4AC-5D42ABBC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1FE7-93D7-48B1-93D9-E89D9F43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7FE4E-A10D-41F3-B59D-CF25F48EEB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