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08450"/>
        <c:axId val="3136860"/>
      </c:barChart>
      <c:catAx>
        <c:axId val="91208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6860"/>
        <c:crosses val="autoZero"/>
        <c:auto val="1"/>
        <c:lblAlgn val="ctr"/>
        <c:lblOffset val="100"/>
        <c:noMultiLvlLbl val="0"/>
      </c:catAx>
      <c:valAx>
        <c:axId val="3136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08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E04-638F-4EC5-B095-36C94361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84CD-3D64-435D-B546-34167F04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2AC9-E6FD-4FCD-902D-92938DCD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F75C-8074-4430-8510-391A4A9E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25E-8857-44E4-AAEB-2FA9C39F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261-71FA-46D1-B2E3-594AEC54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E51-AE2E-4F29-995F-35FB9E91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0C88-FE64-4647-8909-5E1CAEBA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C42B-1FEB-46B6-80CA-D0F60E6F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E42-09CD-4490-A4AB-C6126BB4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BF4-C832-43B2-9B55-45DEED56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A26-560A-401E-9DA2-416E5555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C4693-DE9E-48D4-B40F-957E263257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