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4270"/>
        <c:axId val="32216145"/>
      </c:barChart>
      <c:catAx>
        <c:axId val="1634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16145"/>
        <c:crosses val="autoZero"/>
        <c:auto val="1"/>
        <c:lblAlgn val="ctr"/>
        <c:lblOffset val="100"/>
        <c:noMultiLvlLbl val="0"/>
      </c:catAx>
      <c:valAx>
        <c:axId val="32216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4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7B3-1E1A-42D7-8752-49715D96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0DD-7709-4E0A-BE4A-3D1FD1F3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6CC-0313-4271-A450-45AFC672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104A-E934-4339-A9E4-2F3CBF0C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972-14B1-4ECC-B557-262C356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D66-540F-4033-B09B-BC82E702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6F5-D0FE-412C-96F6-5ED6A087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575-160C-488E-B85B-6AF76B4D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3EA-3923-447A-B565-BF4C39EA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E5A-7B62-4A25-8D05-7EA7A946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746-2159-4972-AF03-547FDAA4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18D-0DC2-423F-83AB-9F371E30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B0076-8EB6-4F9A-991C-5BB207B702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