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6763654"/>
        <c:axId val="77919878"/>
      </c:barChart>
      <c:catAx>
        <c:axId val="96763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19878"/>
        <c:crosses val="autoZero"/>
        <c:auto val="1"/>
        <c:lblAlgn val="ctr"/>
        <c:lblOffset val="100"/>
        <c:noMultiLvlLbl val="0"/>
      </c:catAx>
      <c:valAx>
        <c:axId val="779198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763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5918-AF06-4F51-BE6D-61FBD5F70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5AC4-75C2-4141-8BE0-59461855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0E83-322E-4742-863F-844365B1B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8A1D-D8CB-4589-9BB8-A33472025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44D5-B0D5-4E66-8863-60C5A487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D375-0E6C-48CE-8ACF-7F7D706F0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21BA-9638-409D-8641-5B1D4492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E9B9-529F-4049-AE54-20BBB32F5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F51D-2386-43D4-80A1-6CA3F0F60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3B64-6DD3-44A1-9069-84483B6EE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0B78-4A1E-4B18-BA9E-926255A3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79A8-F2C0-451A-8D3F-520BB8087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470FE9-79B6-4B39-9813-B0D18635D98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