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65362"/>
        <c:axId val="84799359"/>
      </c:barChart>
      <c:catAx>
        <c:axId val="31365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99359"/>
        <c:crosses val="autoZero"/>
        <c:auto val="1"/>
        <c:lblAlgn val="ctr"/>
        <c:lblOffset val="100"/>
        <c:noMultiLvlLbl val="0"/>
      </c:catAx>
      <c:valAx>
        <c:axId val="84799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65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8AF-147C-4BB7-96B4-BBF33985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31D-652F-43C0-8969-70600D1E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528-162C-4224-8DF1-DB5966D6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7E6-94F1-474D-B21F-B072A87E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E56-66E6-4654-A9E1-92BC502E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1E4-DB41-4013-9676-00777B8B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662-FAEB-485A-BC7D-9ECC0D8F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9A5-91F2-46C5-9AA0-51DAC846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C06-BA26-4D29-95F2-2208B7D3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BDA-14AB-4E2D-9366-2ED1113F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280-EADE-4298-82AB-4F9ED2D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9D0-6C98-4C53-8E27-F39AC705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A08DD-1050-48C1-B69D-B92B9BFF8D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