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33807"/>
        <c:axId val="9676332"/>
      </c:barChart>
      <c:catAx>
        <c:axId val="18933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6332"/>
        <c:crosses val="autoZero"/>
        <c:auto val="1"/>
        <c:lblAlgn val="ctr"/>
        <c:lblOffset val="100"/>
        <c:noMultiLvlLbl val="0"/>
      </c:catAx>
      <c:valAx>
        <c:axId val="9676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33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041C-23A0-4CBA-AD28-F8059DB0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47E-45F4-4C76-B29E-C45D35FD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6A7-C9E2-4B25-B2AD-0EEFC03A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181-328E-4EF3-8C0C-BFBA7A67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FA8-E409-4B4E-9052-CB6B4D07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649-797C-4609-88A6-23A589F9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8FF2-6B5C-4967-A203-6D5AA2B6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5C94-5FAC-4CD7-9F22-49045B4D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A6B6-7DD9-4C83-8BA6-E8D9F9CD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4EA-3DAE-42BE-9935-F8B371CC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F53-894D-4A99-B9B5-BBF19BD8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976-6A20-4BEF-BDEA-098E95FE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034AF-1ED3-486E-ADC6-E990AE560A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