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04381"/>
        <c:axId val="13066697"/>
      </c:barChart>
      <c:catAx>
        <c:axId val="23904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66697"/>
        <c:crosses val="autoZero"/>
        <c:auto val="1"/>
        <c:lblAlgn val="ctr"/>
        <c:lblOffset val="100"/>
        <c:noMultiLvlLbl val="0"/>
      </c:catAx>
      <c:valAx>
        <c:axId val="13066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04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529-70BA-4FD4-AB64-CF1549CC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900-A0DA-4F80-A905-1DCF4B61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32D-8BB0-47A8-B778-D0B83AA2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BFB-FAA4-4CDE-A510-7F5CA2AB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2DE-8EC5-417C-BF9A-9AA8720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3F0-8B39-4262-A2E3-2F169B7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319-4FDF-4CBD-8589-F6A01BEF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7AE-9E64-4EE1-984A-42EB047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EE-F326-4B52-A741-57AF335E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4F9-404D-4DD6-9B3E-D63D6BB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FA9-6003-4887-8E52-D46979D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7A1-F5C0-4FBC-B27F-7820712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95072-8BF6-4560-A98F-0726046DCD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