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9565920"/>
        <c:axId val="92261048"/>
      </c:barChart>
      <c:catAx>
        <c:axId val="9956592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261048"/>
        <c:crosses val="autoZero"/>
        <c:auto val="1"/>
        <c:lblAlgn val="ctr"/>
        <c:lblOffset val="100"/>
        <c:noMultiLvlLbl val="0"/>
      </c:catAx>
      <c:valAx>
        <c:axId val="9226104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56592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2BC5-6757-4E6E-BBF2-966610484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2B17-D529-4B76-A542-01C8B59D4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8777-B609-449F-9533-EA880C1E8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FDCB-1BA6-4154-96B2-F7BDAE962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5A68-1CD8-415C-8349-98CEEADC3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AF20-3B10-49D2-B905-14782BF3D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C3E0-72D5-4CC8-9302-E353699CC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4832-45A6-41D2-AB91-B49901A2F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D072-F170-45FF-8D69-655986835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39C9-9BC7-4C4B-8AB1-A09AF9550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A038-9494-4405-BFD7-93CBF0361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5C4B-BF89-4EB7-8C44-3F529DF9A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F8A6EF-F95A-401C-93E3-6E573BFABAD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