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809407"/>
        <c:axId val="96982963"/>
      </c:barChart>
      <c:catAx>
        <c:axId val="578094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982963"/>
        <c:crosses val="autoZero"/>
        <c:auto val="1"/>
        <c:lblAlgn val="ctr"/>
        <c:lblOffset val="100"/>
        <c:noMultiLvlLbl val="0"/>
      </c:catAx>
      <c:valAx>
        <c:axId val="969829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8094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9001-9567-47FC-B865-D6CD142BA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37EB-2689-425B-8FF8-3100164D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E594-B542-49F8-97A7-5C8F0246D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731C-21F2-46DC-A6A6-E9F22B81C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EBD6-30DE-43BD-B7AE-BA09F8E8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64B4-3A70-4B12-9B37-16C5B628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C22B-910D-48BA-BD45-CB611B1B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1D25-B0CF-4E76-87B8-140EE035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4B23-9388-4FBB-86EA-CBA180E0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92EB-1BF3-479B-A482-031936C7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B5C9-4B02-4C2C-B2AF-3E817A18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353F-37D6-4C8A-8D68-7CD214B1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8B8756-BC50-4CB8-904D-AFC403AAA5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