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81468"/>
        <c:axId val="21287253"/>
      </c:barChart>
      <c:catAx>
        <c:axId val="66381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87253"/>
        <c:crosses val="autoZero"/>
        <c:auto val="1"/>
        <c:lblAlgn val="ctr"/>
        <c:lblOffset val="100"/>
        <c:noMultiLvlLbl val="0"/>
      </c:catAx>
      <c:valAx>
        <c:axId val="21287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81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337-B5F6-4501-96A9-84A6A3B0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490-022C-4351-8555-9AADAF9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4AB-7188-4B89-9E03-FEF53B70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941-D82B-4FC6-963B-931AA977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144-3485-4A16-A71A-5E82FCB8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9CD-77B9-4B07-B5F6-AC3E819B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1D3-DCBC-4A48-B9AE-FF42F65F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650-653E-4DA7-84C7-3D01B9B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943-3E7F-4D64-9A24-3861D70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633-6C32-447A-9E1B-0D660A5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001-D092-4D13-8203-4929C87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08A-60F2-4D28-B135-28C1C11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5FC7C-0CB3-4EBF-9159-3CCB5F8B1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