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01671"/>
        <c:axId val="5566271"/>
      </c:barChart>
      <c:catAx>
        <c:axId val="12901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6271"/>
        <c:crosses val="autoZero"/>
        <c:auto val="1"/>
        <c:lblAlgn val="ctr"/>
        <c:lblOffset val="100"/>
        <c:noMultiLvlLbl val="0"/>
      </c:catAx>
      <c:valAx>
        <c:axId val="5566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01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8B1-A20A-4D35-A9DF-B0F07D2A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CE8-CDAE-471B-9EB7-49014F7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C40-7A98-4FFF-A1B8-6F8764A6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B18-D06A-415B-A465-720A6A93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82F-D1E8-437F-BACE-326260AE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38D-0229-4056-BEBB-2038B481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B59-1A9A-492C-A1E6-D71334F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2ED-DDCE-4107-A39C-2C613FA5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6B1-4406-4F45-A161-AA563D48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D82-34D4-440B-B489-535557C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CEE-2B20-4162-92B2-B5FC1675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F0F-DBFC-4006-B7AF-CBE0B4C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1DAA4-0F0B-4E45-8B42-19C05B6888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