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59227"/>
        <c:axId val="3742917"/>
      </c:barChart>
      <c:catAx>
        <c:axId val="45259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917"/>
        <c:crosses val="autoZero"/>
        <c:auto val="1"/>
        <c:lblAlgn val="ctr"/>
        <c:lblOffset val="100"/>
        <c:noMultiLvlLbl val="0"/>
      </c:catAx>
      <c:valAx>
        <c:axId val="3742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9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F82-5E08-4CD7-BE14-803ED4FC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78A-E80C-4CB8-85B6-7ED663C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E94-B9A2-4D31-BB2D-2C82D2DF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7CD-2B18-4393-A055-C4E04B86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E8A-F99C-4906-9271-7A5E8196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085-FA51-4649-9D34-FE9F3E34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66C-0852-47F3-9260-C4B446F5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51E-38EF-48CC-A2C7-4C636836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9C3-56C4-47DD-BD5F-9A445C0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0F0-6EA9-4C38-A7E4-493AE53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046-18CE-491E-9409-4FB2CD10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8A5-B7B9-415C-A21D-EFA463F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60897-16AC-4118-8A69-5A5669966E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