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050851"/>
        <c:axId val="58429046"/>
      </c:barChart>
      <c:catAx>
        <c:axId val="210508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29046"/>
        <c:crosses val="autoZero"/>
        <c:auto val="1"/>
        <c:lblAlgn val="ctr"/>
        <c:lblOffset val="100"/>
        <c:noMultiLvlLbl val="0"/>
      </c:catAx>
      <c:valAx>
        <c:axId val="584290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0508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972E-0F65-4E80-B404-A05C68E98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0015-D4E9-4D57-A81C-F8A70380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D10A-7B87-4ABF-A1C0-30DB9DD67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794F-07FC-49A2-BC8C-4E3D33208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0AF7-6954-4D05-8DEE-4AB0A6E7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2195-548F-481C-8C19-918593BA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6AE1-1636-4866-8BAC-2D22F5DD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10FD-1DA5-44C5-A76F-F39F84B1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CA63-754D-404E-9727-B9A13BE8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00AC-1016-4DFC-92C5-EEDA2634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9EBD-A0C3-495B-8686-2BE58725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1E9F-1C7F-441D-A3D9-4897EFD9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7A1B1-CFEE-46C7-B915-77D1BC9957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