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91345"/>
        <c:axId val="74715323"/>
      </c:barChart>
      <c:catAx>
        <c:axId val="53991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15323"/>
        <c:crosses val="autoZero"/>
        <c:auto val="1"/>
        <c:lblAlgn val="ctr"/>
        <c:lblOffset val="100"/>
        <c:noMultiLvlLbl val="0"/>
      </c:catAx>
      <c:valAx>
        <c:axId val="74715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91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E6B-27E7-4A90-8BCD-2997607E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262-E2B2-474E-AA55-A1460740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D30-A018-4564-84D8-FDA9082E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F18-7646-4A91-A394-E1D510C7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9CE-3416-4D37-A10D-C839980B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662-61FF-4DD3-9EE8-62C351A2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696-F96F-4D3A-9C5E-095227DB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421-0891-49BD-8A8D-53D55A68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F4C-9FB9-47C4-A849-E255660F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8D9-6C64-40F7-A251-90D411CB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A99-A8A8-4A38-B674-B7726967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7EC-0456-4C6E-8BE8-1B2D4B51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4FCBC-0139-48A4-9493-FD5994620A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