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27554"/>
        <c:axId val="87231609"/>
      </c:barChart>
      <c:catAx>
        <c:axId val="12627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31609"/>
        <c:crosses val="autoZero"/>
        <c:auto val="1"/>
        <c:lblAlgn val="ctr"/>
        <c:lblOffset val="100"/>
        <c:noMultiLvlLbl val="0"/>
      </c:catAx>
      <c:valAx>
        <c:axId val="87231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27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B2C-C0D0-4BF9-A55E-098176A3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BB0-FEB2-4856-BC51-F27F7A1F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546-B9A1-4BDA-8F71-52EFB95F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2B3-2033-4C8E-95B1-2E389D12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EC7-F26B-4D39-8820-E100E1D4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623-98FF-4E30-98A0-6D6C97DE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95F-328D-4534-A64C-8A469AE9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7861-DE82-444F-BF48-77936258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D95-256A-407E-9D33-062090B8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007-A80D-416B-9BE0-B13BD02B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5B1-8EEE-4CA0-8A5D-B89AFB10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769-5425-439A-89F6-BC801B60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DCEF7-A4F0-4EFE-AD87-6EE08B4BBB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