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71880"/>
        <c:axId val="4507056"/>
      </c:barChart>
      <c:catAx>
        <c:axId val="25371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7056"/>
        <c:crosses val="autoZero"/>
        <c:auto val="1"/>
        <c:lblAlgn val="ctr"/>
        <c:lblOffset val="100"/>
        <c:noMultiLvlLbl val="0"/>
      </c:catAx>
      <c:valAx>
        <c:axId val="4507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71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A9E-85AB-46AD-8B0F-CC8F3AAF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DEA-7CC3-4B82-898F-740DE7CF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9D9-837D-45CF-AD4D-5E944C62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EEE4-EEDE-4218-AE56-A58DBAED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AFC-7FF0-4AA3-BDC4-B5B29969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E6D-B220-4D18-84F3-5B0C7467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E20-08C9-436D-99F1-DCD69E8A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AB3-097C-4FAC-88B0-232AD374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7CC-7818-4CAC-8B9A-EC187927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1DF-99F0-4A4B-9411-9E8A0EC9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376-1095-4B7F-840C-1AD6F794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761-7E55-4CB5-9644-BEC69CDB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C1BE6-72C7-481B-86CA-4DA3B78420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