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01529"/>
        <c:axId val="16150610"/>
      </c:barChart>
      <c:catAx>
        <c:axId val="72401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50610"/>
        <c:crosses val="autoZero"/>
        <c:auto val="1"/>
        <c:lblAlgn val="ctr"/>
        <c:lblOffset val="100"/>
        <c:noMultiLvlLbl val="0"/>
      </c:catAx>
      <c:valAx>
        <c:axId val="16150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01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C1F3-EA18-4049-BDDB-5D5198A5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D1E-27A2-4587-94C4-4E92ED93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74D-389C-4CFE-BD43-086F752B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947-8D3B-4AC1-84C1-67AEE350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FD6-A1AF-4E48-8C2C-8CCF90EC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365-81F7-4840-B9C2-3694DEA7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873-A6E0-4B2D-91AE-C2AFB48A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AB6-F303-4FEF-A8FD-088B564D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7BA-4873-4812-8968-7C6576CE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D157-0BA3-4232-AEA1-E11B5504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9EC6-21F1-4555-9688-FBFC7D85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8ED-2652-4C87-9C8B-CE5DC619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C2046-1E31-437C-8DC2-2DC6298ACD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