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55233"/>
        <c:axId val="70383154"/>
      </c:barChart>
      <c:catAx>
        <c:axId val="51955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83154"/>
        <c:crosses val="autoZero"/>
        <c:auto val="1"/>
        <c:lblAlgn val="ctr"/>
        <c:lblOffset val="100"/>
        <c:noMultiLvlLbl val="0"/>
      </c:catAx>
      <c:valAx>
        <c:axId val="70383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55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9A5-23E2-488E-9D94-1B2D45C1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DB9-680C-42B0-B13A-90D09FC2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087-735C-4DED-9B39-174F67BF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0B3-1226-4DF1-BD96-5031D438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476-0FFC-4FE1-934A-CDD41B43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07D-D272-49E6-AABF-EF57164E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EA6-6214-4A86-B9E4-7A321605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F01-1DE1-4B3C-B24A-FB6F5312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49F-6848-4ADB-A815-28C51E1C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76F-0F91-48EE-8F78-28D5024B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AA2-5768-48E9-BC7B-CBC758B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B31-CC9F-4C28-AC61-A87BFAE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DD3EF-DD15-43CF-9C93-7E699AC4A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