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58233"/>
        <c:axId val="84285469"/>
      </c:barChart>
      <c:catAx>
        <c:axId val="78658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85469"/>
        <c:crosses val="autoZero"/>
        <c:auto val="1"/>
        <c:lblAlgn val="ctr"/>
        <c:lblOffset val="100"/>
        <c:noMultiLvlLbl val="0"/>
      </c:catAx>
      <c:valAx>
        <c:axId val="84285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58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08B-90FD-4BD1-8C7B-2382BE9C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96B-1E66-4922-A2BF-C9BE0115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830-FA60-4940-B1E7-46884192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3C4-5B0E-48A0-9942-3F38FAD0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B7B-F208-459A-AEE3-193A340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FAB-5B43-4510-B5B3-CE6382EB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3C8-2083-4874-8883-4B8AA25B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E06-2C12-4803-9B43-CB2A1B05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F26-1812-45C8-AA75-2F402CD2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777-F280-4228-ACF4-8E8D0D9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7EB-897E-4293-B432-1BF562B1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3C4-F96D-4238-8FD8-31E8195A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5D91F-E06E-4DA7-874E-B9C4B733B2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