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357032"/>
        <c:axId val="79195650"/>
      </c:barChart>
      <c:catAx>
        <c:axId val="835703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195650"/>
        <c:crosses val="autoZero"/>
        <c:auto val="1"/>
        <c:lblAlgn val="ctr"/>
        <c:lblOffset val="100"/>
        <c:noMultiLvlLbl val="0"/>
      </c:catAx>
      <c:valAx>
        <c:axId val="7919565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5703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6B0C-61FD-4899-8024-C2A8C61B3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986A-2AE0-4352-96F1-013C1A723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4304-EF3D-403C-A2E1-6ABAFB9C4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24BD-977C-430E-95ED-42401CC0E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F3E3-3DAE-4799-855E-5A8F8389D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9DE9-D457-4CD9-9B75-7F4170CCA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894F-99A1-4F1A-9509-85EEC2160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844E-7314-4AB1-947F-7E5B08007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684F-F259-433D-A8D7-7CF301DED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F8EE-CCC3-45BF-AFF6-D6B9B5292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50CA-B847-4944-82D8-2E05E838B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3F76-6A4C-4709-A79A-E1DF82E2B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5383E4-91EF-4E26-B26A-75660CC1B84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