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02569"/>
        <c:axId val="23703123"/>
      </c:barChart>
      <c:catAx>
        <c:axId val="22302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03123"/>
        <c:crosses val="autoZero"/>
        <c:auto val="1"/>
        <c:lblAlgn val="ctr"/>
        <c:lblOffset val="100"/>
        <c:noMultiLvlLbl val="0"/>
      </c:catAx>
      <c:valAx>
        <c:axId val="23703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02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3B8-9FAA-419F-8DFC-35335BA4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A2F-B0DC-4A36-B8AA-9199D639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792-54F9-4408-8FC3-C61C9DFF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A0E-D606-470B-A955-438405E8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D07-96D4-4B4A-981F-565EF55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FD6-CDFB-4E05-BFFE-0A901EF4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3C0-33F1-41B9-A937-6B0D6A68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041-6664-4C05-B17F-D3123F3C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E69-E100-4239-9594-C9BB9C7C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5BF-4656-4E28-A722-BAC57A74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CAC-D294-46D6-BFD8-65B2F185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5AD-F50C-42D9-9253-451B541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28C91-2794-4AF6-AF0F-AA64A66166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