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775277"/>
        <c:axId val="37999515"/>
      </c:barChart>
      <c:catAx>
        <c:axId val="587752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999515"/>
        <c:crosses val="autoZero"/>
        <c:auto val="1"/>
        <c:lblAlgn val="ctr"/>
        <c:lblOffset val="100"/>
        <c:noMultiLvlLbl val="0"/>
      </c:catAx>
      <c:valAx>
        <c:axId val="379995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7752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B1EB-B218-4D97-88CE-FB6B21798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79A-035A-44D9-84BA-930277861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2EB0-4B8A-464D-87F0-9F21DBF2E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699-DFF2-4597-BE27-89636FC9E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7A7C-9BCF-457C-AE0F-D5E25ED5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B729-C7DF-44B3-A558-B27C97155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B8CC-2930-4877-9518-90BFBBDF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8E276-6995-42AA-B8E6-4B44043C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4B5F-8D67-43C7-BC17-440A943E0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04F-713F-467A-9696-0C22C8F6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3AA8-E29D-4218-BCC1-91984641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D7A-092D-4A4B-8DAB-76313126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373BC0-3069-4C2B-884D-D30137301F0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