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2602"/>
        <c:axId val="37836282"/>
      </c:barChart>
      <c:catAx>
        <c:axId val="92432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6282"/>
        <c:crosses val="autoZero"/>
        <c:auto val="1"/>
        <c:lblAlgn val="ctr"/>
        <c:lblOffset val="100"/>
        <c:noMultiLvlLbl val="0"/>
      </c:catAx>
      <c:valAx>
        <c:axId val="37836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2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C4A-2139-45AE-861D-9980B1B5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F35-133E-4910-8672-E396E56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A14-EF1D-414C-84D9-242990B8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570-F437-4FC4-937C-1FADED15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CE7-A2DF-48C7-960B-1AE77B8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416-7AAD-4FDE-B96C-5142727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8C7-7EDC-420F-BF86-92E00F3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974-A625-4EFE-973A-25F1990E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6D6-7CE6-44D8-9348-6A333FC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87A-5057-4EF3-8076-C988BDF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C68-5751-4BCC-BD26-7175346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DCC-671A-4D98-844E-B983B89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E550B-950E-4B97-A9BF-1A486E903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