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270274"/>
        <c:axId val="20933294"/>
      </c:barChart>
      <c:catAx>
        <c:axId val="142702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3294"/>
        <c:crosses val="autoZero"/>
        <c:auto val="1"/>
        <c:lblAlgn val="ctr"/>
        <c:lblOffset val="100"/>
        <c:noMultiLvlLbl val="0"/>
      </c:catAx>
      <c:valAx>
        <c:axId val="209332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2702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A677-6641-4932-8B4B-FC20BFFA1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6C3F-8F6A-4172-B74E-D41575B0C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12032-F946-446A-9AD3-3D2ED0DA4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0A58-2AD6-4B16-8250-B78D8F7A9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0F35-355F-460D-88DD-933B892F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206A-8D40-44DE-85F2-593CEDB24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4985-BEAC-4A85-AC57-65C6D7536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0152-905D-4C3B-89D4-04CE5EAE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06F0-E525-4DCC-98D3-E7798875A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7594F-0375-49F3-891C-2EC580FBD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664C-22CC-48B5-9A36-9ADF98760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2648E-5170-4D70-BB22-F589E4AC6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984115-326C-4A82-BA93-1BCE0E64295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