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00404"/>
        <c:axId val="34023422"/>
      </c:barChart>
      <c:catAx>
        <c:axId val="92600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23422"/>
        <c:crosses val="autoZero"/>
        <c:auto val="1"/>
        <c:lblAlgn val="ctr"/>
        <c:lblOffset val="100"/>
        <c:noMultiLvlLbl val="0"/>
      </c:catAx>
      <c:valAx>
        <c:axId val="34023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00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7AC-E64E-4F4D-B742-5F844C00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06C-63F8-4EFB-9B7D-FF9369C3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770-67ED-4601-AF59-2B3DC26B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C6DE-EFD5-4756-87C1-CD407B30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AD3-F145-409C-B3B7-E1795A28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D63-2AC8-4875-8D31-0B7D206B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9C3-3497-4234-BC10-398A42CD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A90-1D69-46AD-ACC7-D5941DD1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073-5FC3-468D-8A55-67AE320B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CE2-A0EC-47A9-9A28-BE220F49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E07-1DB2-4460-9EE4-A4ECC3A6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BDA7-F4C1-4935-A40C-CDB405F2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3348E-689B-488D-932C-D33B936F15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