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66577"/>
        <c:axId val="9049557"/>
      </c:barChart>
      <c:catAx>
        <c:axId val="52166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9557"/>
        <c:crosses val="autoZero"/>
        <c:auto val="1"/>
        <c:lblAlgn val="ctr"/>
        <c:lblOffset val="100"/>
        <c:noMultiLvlLbl val="0"/>
      </c:catAx>
      <c:valAx>
        <c:axId val="9049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66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1C4-4D57-483A-935D-F3A9BB3F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445-21BC-4C87-A546-CFE9E54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87D-1210-4949-B866-21A636B6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8CE-9747-4604-A1C6-A98ED8B6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4A9-0127-40BD-A8A7-3314D08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404-3555-430F-BBC0-52BBDC6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250-7779-4241-9DC4-354BF2BB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791-C01E-4E4B-9038-D5FC5A08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2AF-388E-4C45-9F54-60B0858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EBE-46AF-4994-8732-4A1869EB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201-D84A-4A6A-B90C-CE2E490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9CE-39EC-4469-B87A-35FD0D55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FD358-AD7C-4378-B9EF-61957E4EBB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