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12767"/>
        <c:axId val="92754259"/>
      </c:barChart>
      <c:catAx>
        <c:axId val="76212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54259"/>
        <c:crosses val="autoZero"/>
        <c:auto val="1"/>
        <c:lblAlgn val="ctr"/>
        <c:lblOffset val="100"/>
        <c:noMultiLvlLbl val="0"/>
      </c:catAx>
      <c:valAx>
        <c:axId val="92754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12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EA0-9083-4D73-8FFE-5824E2B1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9C9-3B38-4C2A-91F6-060A5101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911-E818-497F-B49B-D00DBABD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C63-05AC-4669-AEAE-10398A01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A76-65D0-43DB-97A0-C6ACD355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E1B-96B0-425E-8529-88DDBF1D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8F0-9447-4AF3-ADDD-6F6DA835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C69-9AAB-43E7-844A-7F7CE7C0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9BE-D143-4E48-A359-32AD0413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695-57B8-493D-828C-8583519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6C2-7A52-407C-B4ED-3DDE7066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8C1-406A-487D-A248-6FCF74B0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FB8F7-2CC7-4C39-8F46-77713037AB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