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46516"/>
        <c:axId val="20697785"/>
      </c:barChart>
      <c:catAx>
        <c:axId val="86146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97785"/>
        <c:crosses val="autoZero"/>
        <c:auto val="1"/>
        <c:lblAlgn val="ctr"/>
        <c:lblOffset val="100"/>
        <c:noMultiLvlLbl val="0"/>
      </c:catAx>
      <c:valAx>
        <c:axId val="20697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46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D89-2973-4896-9919-5FC5BCC8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660-E77E-4766-91C3-2EF45147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DC3-3037-4E8D-9413-0C7E862E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6C7-E667-45EC-9332-9061C754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376-F4B7-4D44-A90A-52CFD1EC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1C6-EE8E-478A-B0BF-8232ABAF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8B9-F808-4068-B69F-2BC3EA6E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786-930D-4998-8C10-5EFBF0DE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647-ECA0-4C7F-9E90-AF9F31C0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462-7ED2-4891-A158-0812A5F5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DBF-0F01-47AA-902A-5D73C7E6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A6F-E70E-42CF-9967-0B162190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CDE60-F33A-48E0-AA13-25A2C85D1C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