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28613"/>
        <c:axId val="9786252"/>
      </c:barChart>
      <c:catAx>
        <c:axId val="49328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6252"/>
        <c:crosses val="autoZero"/>
        <c:auto val="1"/>
        <c:lblAlgn val="ctr"/>
        <c:lblOffset val="100"/>
        <c:noMultiLvlLbl val="0"/>
      </c:catAx>
      <c:valAx>
        <c:axId val="9786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28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66C-2A38-4FCF-ACC6-E32DA665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109-DF57-4399-BE88-5BAC9EC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58E-4A31-4368-A364-495BB0E6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B9F-F555-4E57-ABC1-AE8174E4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132-2823-4821-82EF-E2CA373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220-AC3B-4AE0-8462-FE096070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B80-BC87-4C94-97B4-4B6996E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4F3-5E8F-438C-9038-6C7ED5D6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DA7-BE96-478E-AFA0-F8F59E1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5DC-9824-42C0-BD53-99268E3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8D3-E4DA-47A1-A965-8B08628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F6B-23DC-4879-8C86-9633942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FEC87-C480-4204-AA0F-E25073CA5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