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95964"/>
        <c:axId val="3186642"/>
      </c:barChart>
      <c:catAx>
        <c:axId val="24695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6642"/>
        <c:crosses val="autoZero"/>
        <c:auto val="1"/>
        <c:lblAlgn val="ctr"/>
        <c:lblOffset val="100"/>
        <c:noMultiLvlLbl val="0"/>
      </c:catAx>
      <c:valAx>
        <c:axId val="3186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5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FDF-9C06-441B-B16D-6F666836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3A3-755E-41B0-AB3C-C90960C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2AF-1A4B-479B-941C-DD52154A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B5C-1137-4AD2-B807-F2C04B6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006-58A5-43C4-8844-CB53E01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47E-8EA9-43F5-9CFB-54A7225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0FA-54E3-43E3-BF7B-B86F3B33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1D3-8B17-4D0A-97D2-84ED0A8D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5BE-2B97-4C32-8C81-4DFE64EF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98F-B610-430C-9634-39C0297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CCB-3DB0-4888-85E8-A66D1B4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C20-B720-4EAA-A4E0-FA320BA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3FEEC-F5D5-4894-BBE9-9B8FF06CC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