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99975"/>
        <c:axId val="99336910"/>
      </c:barChart>
      <c:catAx>
        <c:axId val="75299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36910"/>
        <c:crosses val="autoZero"/>
        <c:auto val="1"/>
        <c:lblAlgn val="ctr"/>
        <c:lblOffset val="100"/>
        <c:noMultiLvlLbl val="0"/>
      </c:catAx>
      <c:valAx>
        <c:axId val="99336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99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88C-4B9D-49F9-A4DB-8928E607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FE5-7C18-4D9E-832D-351AD689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8EF-3BD0-4184-BF61-23528B5F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C35-950E-4ADE-B609-0C0E94B0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7D2-1D63-46B5-9375-8483ED78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BB7-BF44-497A-A5C0-D82B1BFF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B59-4305-4CA6-B0DD-D9879AB9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ABE-FAF1-4F2F-BA34-1C0D1159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EA4-2999-4E3C-AB60-51CE4802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212-2189-49A9-97C2-D416B34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41A-7429-480D-B7F7-12038999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C22-2480-4424-8D12-8D8F5629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33609-B38A-4675-90F8-C3BD73EC20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