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9802"/>
        <c:axId val="10232571"/>
      </c:barChart>
      <c:catAx>
        <c:axId val="6739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32571"/>
        <c:crosses val="autoZero"/>
        <c:auto val="1"/>
        <c:lblAlgn val="ctr"/>
        <c:lblOffset val="100"/>
        <c:noMultiLvlLbl val="0"/>
      </c:catAx>
      <c:valAx>
        <c:axId val="10232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9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DAA-ADEE-4E8A-9F46-A47FB091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CDC-4AEA-4DEE-9AA1-B7620A99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84D-043A-4103-A063-FF4051DC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9E4-77E0-40CE-B036-44F67247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5AB-DC88-42CB-B378-2F1AC201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579-06D2-42A6-A77C-38659992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6F8-1024-426C-9B84-BD64B891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958-524D-4BC6-9861-2E8FA029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F9D-E02E-43A1-9AA5-6C12D7F6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D18-B7B9-46BD-8937-277AC92B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B15-2D32-4B0A-897C-59A5CE6E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D26-1A48-4C0B-9D7D-A68B946B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6888B-2255-4290-A870-1D6BBAAAE2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