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302"/>
        <c:axId val="15927537"/>
      </c:barChart>
      <c:catAx>
        <c:axId val="3272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27537"/>
        <c:crosses val="autoZero"/>
        <c:auto val="1"/>
        <c:lblAlgn val="ctr"/>
        <c:lblOffset val="100"/>
        <c:noMultiLvlLbl val="0"/>
      </c:catAx>
      <c:valAx>
        <c:axId val="15927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059-9130-4728-8E94-FE80910F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1FE-230D-4B40-99DF-97F8128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74D-FE58-4CF3-B416-980F43F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985-3B01-486A-8842-8B336E88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C88-F148-46F5-896A-CF807162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591-75DD-4C02-A379-D56BFBD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F69-5E77-46FD-8D65-8B88DBB0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91C-6352-478B-BAA2-1C89D567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E42-6250-46E3-BA73-35B3C88A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A92-C426-4147-BBA3-26BD107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56C-D507-4A87-B6A1-1D2EF4E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3C8-92E8-413F-A245-67DEA6B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1B3B0-0FEF-4D19-BAB7-CC8F3084E4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