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944644"/>
        <c:axId val="1644355"/>
      </c:barChart>
      <c:catAx>
        <c:axId val="37944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4355"/>
        <c:crosses val="autoZero"/>
        <c:auto val="1"/>
        <c:lblAlgn val="ctr"/>
        <c:lblOffset val="100"/>
        <c:noMultiLvlLbl val="0"/>
      </c:catAx>
      <c:valAx>
        <c:axId val="1644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44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AC4-02EF-4351-9C68-2CAE36E2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9FC-353C-426F-9A04-BA0F6C75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D87-2209-417E-BC7E-07918F8D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204-FBF7-4EAE-86DE-66875514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4E-0D90-4F69-96C5-5F60FD2C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B96-F6E1-4380-8873-6CEC5C3C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2BC-A703-4E1C-B948-860B8496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509-1264-44A6-8E9A-67DCE1F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40C-F011-48DE-92A4-DA2CF4D3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FC9-ED7A-4B35-A48F-2DD3515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A82-AB12-4021-A430-392A9FA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9131-962B-42BB-A666-09BB0AD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33DBE-A17C-469F-A5C0-D28F29C53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