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43303"/>
        <c:axId val="83084092"/>
      </c:barChart>
      <c:catAx>
        <c:axId val="744433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84092"/>
        <c:crosses val="autoZero"/>
        <c:auto val="1"/>
        <c:lblAlgn val="ctr"/>
        <c:lblOffset val="100"/>
        <c:noMultiLvlLbl val="0"/>
      </c:catAx>
      <c:valAx>
        <c:axId val="83084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433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3C8-5B21-4A0C-88E0-AE5AA7A1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57F-6D4D-46AD-8DE6-8993C9FD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4E6F-0EDC-46F5-84CB-4337986A1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9D8-0DE5-4AAE-831C-2BFC86C8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70D-8D60-478A-96BD-0742BCCD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D2E3-6F46-453C-89A9-096BA224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C07-CE03-43F2-AA55-713AC559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033-8BC4-4255-B674-77CAAC7F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5F4-FA81-40A3-BE29-A6BE6020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290-3F73-4F27-9D6E-CDD24179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080-1907-4DB4-AE98-9C76166F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BD9-44AA-4FDA-9E94-3F64F334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A034D-079F-4FD4-9177-4958341D29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