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92444"/>
        <c:axId val="32888140"/>
      </c:barChart>
      <c:catAx>
        <c:axId val="87192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88140"/>
        <c:crosses val="autoZero"/>
        <c:auto val="1"/>
        <c:lblAlgn val="ctr"/>
        <c:lblOffset val="100"/>
        <c:noMultiLvlLbl val="0"/>
      </c:catAx>
      <c:valAx>
        <c:axId val="32888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92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30C-7D68-4C78-8EDA-15CF0A09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CC-47C3-40CB-9372-94CA76E7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C9A-E3FA-46F4-903A-B07559DE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7AF-2D97-49E9-8A5E-3B13A2D9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BBE-A165-47B4-8324-7A66F4B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D5A-92D6-4AE4-ACEF-0789E69F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3A8-AA51-4E73-8FA9-8EB0B9FD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BC8-B785-4FC7-9A89-E2832B6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097-AEE7-45C4-BE5C-5206D1D2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1D5-212E-4312-A84D-627AAAB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D78-C3CA-4915-B093-94802E2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4B0-D0B5-4F50-B018-33A5C33D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7E0E8-446D-4332-A5E0-BADF1688B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