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18273"/>
        <c:axId val="47911902"/>
      </c:barChart>
      <c:catAx>
        <c:axId val="81818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11902"/>
        <c:crosses val="autoZero"/>
        <c:auto val="1"/>
        <c:lblAlgn val="ctr"/>
        <c:lblOffset val="100"/>
        <c:noMultiLvlLbl val="0"/>
      </c:catAx>
      <c:valAx>
        <c:axId val="47911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18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B5E8-7E72-4925-9F8C-E9583704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C4AA-B1B9-4397-9A51-6BE3C42C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262-D110-4F25-9DBF-ADFA4036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B75-71ED-4E00-BBFA-68511B14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96E-D8B5-4330-8EE0-D1B65902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3118-3E5B-4438-97FF-037D407C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8DC-256B-4CEB-8217-5BC7D70C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DB2-F845-486A-8D39-829FC8EA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C567-9BFE-4043-904A-D521A512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24C-2E33-43C0-80F6-B550845F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C0CB-C74C-44FB-926A-5CB5784D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8D49-C1C1-4C5A-B0E5-FEC6C68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DA72C-0F9F-4FB1-86BB-C137C9D1EA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