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38176"/>
        <c:axId val="92242420"/>
      </c:barChart>
      <c:catAx>
        <c:axId val="21238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42420"/>
        <c:crosses val="autoZero"/>
        <c:auto val="1"/>
        <c:lblAlgn val="ctr"/>
        <c:lblOffset val="100"/>
        <c:noMultiLvlLbl val="0"/>
      </c:catAx>
      <c:valAx>
        <c:axId val="92242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38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E4D-6CAC-4DD7-9483-CD588D64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7F2-9867-405C-A559-F8548645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020-0507-423C-AB01-8CB8F139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A7C-1E18-4F85-A61C-D22ACA2B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DCA-6290-4DDA-9BB4-3C1CB464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B84-BDBC-400C-8D6B-D733425C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2A1-A7E2-497E-A431-7A20A328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62C-59E2-4206-AA99-54F186BF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341-1A00-4BD6-9683-9FF2A852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194-BC6F-4447-9914-213321AD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05D-39C5-4646-B82A-78C2E9B4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4B2-729F-407F-94D3-D6186A50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6ED9D-2801-41D7-A8E2-4082F838EF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