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70978"/>
        <c:axId val="51447307"/>
      </c:barChart>
      <c:catAx>
        <c:axId val="5677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7307"/>
        <c:crosses val="autoZero"/>
        <c:auto val="1"/>
        <c:lblAlgn val="ctr"/>
        <c:lblOffset val="100"/>
        <c:noMultiLvlLbl val="0"/>
      </c:catAx>
      <c:valAx>
        <c:axId val="51447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7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6B6-1EF0-49B3-A336-143816FF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D0A-C4F0-4C39-B399-D5F20CF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573-416F-4074-BFB3-F95F3E17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CC5-1E65-42D7-B717-67D32734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A7D-AD3B-43D3-94C0-148C7019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37A-5870-4DB3-8DC7-CB9CBE0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E6E-70B7-4B65-96D6-1D512A8D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A3-9ECC-4630-8227-976F30C7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C9E-0E5F-4352-8C24-B643AD0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66E-5FE0-46E2-8403-EC5223A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AE9-8C6D-4E47-982D-3C7E47A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F48-5C26-43C5-8953-36986BD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45771-D0AD-4150-B27E-BE73A7656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