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74218"/>
        <c:axId val="38280428"/>
      </c:barChart>
      <c:catAx>
        <c:axId val="66174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80428"/>
        <c:crosses val="autoZero"/>
        <c:auto val="1"/>
        <c:lblAlgn val="ctr"/>
        <c:lblOffset val="100"/>
        <c:noMultiLvlLbl val="0"/>
      </c:catAx>
      <c:valAx>
        <c:axId val="38280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74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1FE-1D29-498B-BD45-F9BA4D03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1DB-41CC-41E3-8716-785EB228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362-34C4-4E79-BCAE-6DF2127E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1F1-EEE1-4B58-8DE2-D65A0927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138-8CAA-4437-ABB0-593F2916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460-400E-4035-9344-A1A472B4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E23-5EB7-4582-985C-D07A5B56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FF9-32F6-4171-BBFD-302DC98F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2AE-29CD-4330-98F1-BB1D5CA8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ACF-8C31-4904-8429-8E7BBD35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BA9-B110-4411-BC6C-615D97C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729-9263-4B8B-95EE-60595206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14D92-79A2-44B8-9B92-F3FDB2E1B4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