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17990"/>
        <c:axId val="55803778"/>
      </c:barChart>
      <c:catAx>
        <c:axId val="22217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03778"/>
        <c:crosses val="autoZero"/>
        <c:auto val="1"/>
        <c:lblAlgn val="ctr"/>
        <c:lblOffset val="100"/>
        <c:noMultiLvlLbl val="0"/>
      </c:catAx>
      <c:valAx>
        <c:axId val="55803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17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56D-979B-4BC2-A61D-AC87F277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C45-8E02-48C3-9F9E-96AF0990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DD4-6861-4F9E-B980-05FD60E8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1A3-C985-4435-B230-C43A8072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9A9-195A-4191-B3E9-77C7C1E3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510-6431-442B-9348-A1BB814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1A7-FEBE-4534-91D7-9FF5F06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D40-0D2E-4448-86DB-11626A4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391-E811-4582-9AE6-2F36A660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3FE-D906-41FD-BDA3-CA3FF3C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777-99BD-4ED9-9103-3DED522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DDD-3932-4AA2-9EC2-2FCB341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6AF65-C64C-43AE-A6AD-C8A9B66DB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