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5053"/>
        <c:axId val="35860465"/>
      </c:barChart>
      <c:catAx>
        <c:axId val="2235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60465"/>
        <c:crosses val="autoZero"/>
        <c:auto val="1"/>
        <c:lblAlgn val="ctr"/>
        <c:lblOffset val="100"/>
        <c:noMultiLvlLbl val="0"/>
      </c:catAx>
      <c:valAx>
        <c:axId val="35860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5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5FF-CF80-4428-8919-4B60FA1D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288-FFDD-4353-9CDD-715061D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CA3-5ACE-496F-895B-0A69FF2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A11-9327-4716-A2F7-EFABC45A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842-ABB2-4747-AF83-2A4F8BBC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3EC-4536-4224-AF38-950497B1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6F9-B9D6-4204-A575-74106DC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306-D975-4DC5-B690-26DB4541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1A3-0310-475B-8F6C-E34588CB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994-0F0F-4E92-BED6-AEBF0002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507-090B-4CDE-8166-F45BBCD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801-D6F1-4E5E-A9B9-EE8BCFAF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EBD63-595B-49B0-B23A-6FDA3BBCA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