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46121"/>
        <c:axId val="94508608"/>
      </c:barChart>
      <c:catAx>
        <c:axId val="43146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08608"/>
        <c:crosses val="autoZero"/>
        <c:auto val="1"/>
        <c:lblAlgn val="ctr"/>
        <c:lblOffset val="100"/>
        <c:noMultiLvlLbl val="0"/>
      </c:catAx>
      <c:valAx>
        <c:axId val="94508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46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463-DBFD-4B2E-9F44-0CCBAAEB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700-4124-4F0A-ACC7-37C11AE1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9B2-4A66-493E-BFC1-9FA0C2C7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9BB-249B-4DD8-9160-9429B051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607-B15B-4888-89C2-CEDBA76F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03E-4953-416E-853D-36AFD3EB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FC6-4F47-49B9-89D1-F460D4BA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BAC-24B5-4E5D-8F86-B109C1F9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10B1-EAAD-40A4-8AAD-6BA887C3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568-2AAB-41FC-B0AD-A34E605B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147-09E5-4605-BC89-0475FD72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EC3-8E4F-4810-82BC-BF56C108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E3427-DDBC-4EBF-968B-C0018F52D3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