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78056"/>
        <c:axId val="98093257"/>
      </c:barChart>
      <c:catAx>
        <c:axId val="29978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93257"/>
        <c:crosses val="autoZero"/>
        <c:auto val="1"/>
        <c:lblAlgn val="ctr"/>
        <c:lblOffset val="100"/>
        <c:noMultiLvlLbl val="0"/>
      </c:catAx>
      <c:valAx>
        <c:axId val="98093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78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152-CDA0-4B59-8596-FA35A91C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D68-A946-4718-8CD2-27FAB114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47A2-5FDC-4464-AD0A-E894D4E0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D4A-885F-4F08-BE23-84D9A9E4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447F-309E-4017-9D1F-333044F4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D81-ACB0-493A-81A4-ED045F2F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BD7-A94F-4C6D-B36C-65FE3FE6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555-AAAF-4841-B36E-74BFE3D9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E8B-2CE3-49C2-A403-B7FEFD56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697-6BBF-4C99-AA81-9A706B5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3E4-D162-4BC2-BD31-7E63D6DE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977-1926-4F94-8D31-AB72965B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32789-3BF7-428B-B54E-F398972598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