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63656"/>
        <c:axId val="5397230"/>
      </c:barChart>
      <c:catAx>
        <c:axId val="91763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7230"/>
        <c:crosses val="autoZero"/>
        <c:auto val="1"/>
        <c:lblAlgn val="ctr"/>
        <c:lblOffset val="100"/>
        <c:noMultiLvlLbl val="0"/>
      </c:catAx>
      <c:valAx>
        <c:axId val="5397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63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813-679D-44CE-9A01-6467522A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BCE-0ABE-46F2-BDB2-D897D15C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B09-816D-4D28-9D62-3DA5CD61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9FD-BE3E-4CB1-8D46-13E7A4A5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F05-6C9D-4C7B-BE71-D8D40BF3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78D-A5F5-48D9-94A4-5D239675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72A-26B0-49B4-8C1E-8DECF6AF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C99-316C-41FF-B220-0E3E9A3F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D75-F109-4063-A19C-0F1D2F51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4A6-19CE-4955-948C-14D5DAA9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45B-1F50-4590-9775-7D8E2643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3ED-E68A-4B49-B0CB-CA058215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889CD-860C-40A5-BFA3-EA68085D5B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