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413523"/>
        <c:axId val="63275102"/>
      </c:barChart>
      <c:catAx>
        <c:axId val="174135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75102"/>
        <c:crosses val="autoZero"/>
        <c:auto val="1"/>
        <c:lblAlgn val="ctr"/>
        <c:lblOffset val="100"/>
        <c:noMultiLvlLbl val="0"/>
      </c:catAx>
      <c:valAx>
        <c:axId val="632751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135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BBC9-C5F4-435F-8C12-E56C74AE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1B2D-9DB2-4F61-8BFA-1A31AA63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515C-9964-483B-9F32-E9AEDA3F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ECFE-9F39-44D5-B194-2D74F8C1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8ECB-EAA6-426C-83FC-5FE4D9CA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CA17-21D3-4A5A-951E-6B6D1458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2960-50AB-4391-BA7A-FCF46E06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4110-47E4-421B-A6E5-9B0BAA09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1819-5A88-454B-9CFD-CA156021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15F7-FEDB-4009-B29E-A07E003F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7C4C-90CA-4D8F-A29D-A64BB6BB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E85-3A68-4066-B75D-00E08F5F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27488-5352-4301-BD70-01386B0FF5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