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90770"/>
        <c:axId val="63385770"/>
      </c:barChart>
      <c:catAx>
        <c:axId val="90490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85770"/>
        <c:crosses val="autoZero"/>
        <c:auto val="1"/>
        <c:lblAlgn val="ctr"/>
        <c:lblOffset val="100"/>
        <c:noMultiLvlLbl val="0"/>
      </c:catAx>
      <c:valAx>
        <c:axId val="63385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90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965-F3F6-4ABF-82B2-15228A1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8D2-88C2-46B2-8040-C0D035A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D32-A563-48DC-94E2-6B98D83C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5FF-3864-4E60-BD9E-DE83F34A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DB0-95E5-44D6-A78B-0D1D3C5B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E55-86EE-4B20-A37F-FA71129D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8E0-D28C-42DE-AE8F-45A1735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572-590B-43E8-98CB-1898F61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161-8675-4CEF-A2B6-4871AA0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95B-7E95-44A5-AD0E-803012D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7F3-2006-43C7-B3EE-687B78D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923-9A68-4663-AE00-EDF4CED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A643-E799-4095-A192-DCC7875F7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