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32576"/>
        <c:axId val="83915153"/>
      </c:barChart>
      <c:catAx>
        <c:axId val="68532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15153"/>
        <c:crosses val="autoZero"/>
        <c:auto val="1"/>
        <c:lblAlgn val="ctr"/>
        <c:lblOffset val="100"/>
        <c:noMultiLvlLbl val="0"/>
      </c:catAx>
      <c:valAx>
        <c:axId val="83915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32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C698-04ED-4F49-BE69-8549E43E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DF90-76F1-4788-BCBE-28DC5A9C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90B-6937-4691-B2FB-9586CC1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9A7-0847-441A-B150-60B725B5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222-BD79-48DF-8981-1643BCC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F01-D115-41E1-95F1-937B73A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701-CD9F-4FA3-8A98-5140427A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F9A-D3C2-4B4A-8FBC-1A4A7337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B66-AFC1-4525-A567-34F7B683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F3E-3508-41F7-96A9-57B3F6B1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14D-CE22-4C1C-A852-5F14AABC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7EA-D569-4471-95E9-E192B269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A8FF4-34A1-4D62-849D-00C59C75E0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