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87333"/>
        <c:axId val="65351679"/>
      </c:barChart>
      <c:catAx>
        <c:axId val="343873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51679"/>
        <c:crosses val="autoZero"/>
        <c:auto val="1"/>
        <c:lblAlgn val="ctr"/>
        <c:lblOffset val="100"/>
        <c:noMultiLvlLbl val="0"/>
      </c:catAx>
      <c:valAx>
        <c:axId val="65351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873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A8C-D80B-46BC-AD8A-5AC4BA52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CBC-98CC-4C7F-BCC7-00DC7C9C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AC4-78DA-464F-AA00-D82D530C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9CBF-4E94-4333-A2F3-FDDF4AC3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E69-B2F3-4570-A689-A680B49B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0AA0-12D6-4521-8811-3584810C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F35-57ED-485D-ABE2-40544EC9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8BA-0CFF-4228-9642-2B153AB7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7E2-F82A-4411-BF73-73323FCC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40D-5AE6-430D-84E8-BFABFE19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63E-9386-41FE-A7CA-83C62C7D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2A3-10A4-4C6E-9D6B-52D623EB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1EC61-E84C-4A30-A729-DA7233B872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