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51003"/>
        <c:axId val="57744167"/>
      </c:barChart>
      <c:catAx>
        <c:axId val="3125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44167"/>
        <c:crosses val="autoZero"/>
        <c:auto val="1"/>
        <c:lblAlgn val="ctr"/>
        <c:lblOffset val="100"/>
        <c:noMultiLvlLbl val="0"/>
      </c:catAx>
      <c:valAx>
        <c:axId val="57744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5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9CF-984F-4A19-AD7D-A858951B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76D-E8BB-48CD-AD82-F40D8685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099-5C4C-40A0-BD6A-904A7CBD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BCD-A342-4D16-A6CF-653B3CC0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8A2-837E-41C8-989F-2F6B0FDC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CD8-AAA0-461B-B4A0-C59C3C3B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615-6C65-4CF8-9883-282D91A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AD5-D7DE-4CBA-9023-6238F580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7B4-996D-41A5-8028-C133E4C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5A5-8A79-4E75-96D6-12C0214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7EB-2B10-464E-BD2E-CBC60AE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AA3-369F-4982-9037-95787A7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6237F-445E-4F37-875E-1C64A4291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